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AB0-E29C-4F6B-8016-5797D401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0B4-48A9-47E0-B956-FA30619F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D5C-DEF3-4D88-87C7-0A2126EB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476-6DAD-4162-A970-7D6D5744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9F06-9D62-42B4-BE04-07CBC97C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82DC-4C32-4A6C-8CA8-F928EBB8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930B-44DF-4138-894F-29C80427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791E-0C6D-405D-9E33-0802421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2705-5DDB-47F2-BCE8-2311AE8B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C91B-6AA4-4386-8502-074BB18A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9490-2A9E-4E69-8151-B243E789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A46-45B3-4E06-8B87-6CE0C24C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DA7C-85C9-448E-B448-6B909BB6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207A-3274-434B-8717-14600AD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B0C7-2FA5-48E5-AAEF-8CD01DB1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946B-22AE-4B2B-899C-8A437E4B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3177-2613-418E-B6E6-741DCC3D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47B-7290-4114-9614-1CD9D9F9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38A-C289-47D6-B229-52432843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EED8-6310-435A-A7CA-45AFE0EF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399-B09D-42F3-ADD8-530DF09D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D28-96A4-43C8-AD67-FFEA498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308-3E46-4EEB-951C-AF4BD256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804-CE3B-483B-A894-3D166D34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679A-4D77-460A-A30E-63B02F44C268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0863-E577-4DE4-B571-D0375E0E44C3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129440" cy="5040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266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ÇÕES PREVISTAS EXECUTADAS </a:t>
            </a:r>
            <a:br>
              <a:rPr sz="4000"/>
            </a:b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A EXECUTAR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256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RÇO – ABRIL - MA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36162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Pesquisa com professores regentes sobre os cursos que poderão ser ofertados pelos professores da STE;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Projeto </a:t>
            </a:r>
            <a:r>
              <a:rPr b="1" lang="pt-PT" sz="2800" spc="-1" strike="noStrike">
                <a:solidFill>
                  <a:srgbClr val="2f1311"/>
                </a:solidFill>
                <a:latin typeface="Arial"/>
              </a:rPr>
              <a:t>EJA &amp; Inclusão digital </a:t>
            </a: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curso de informática básica)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20/03 a 10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ok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04/05 a 30/1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em andamento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Projeto Jogos pedagógicos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Projeto aluno Monitor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Oferecer segundo a prioridade curso de informática básica nos três períodos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04/05 a 30/1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em andamento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04/05 a 30/1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2 semestre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11/05 a 15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2 semestre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JUNHO – AGOSTO - SETEMBR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Curso PowerPoint e authorStream nos três períodos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Curso MovieMaker, YouTube e Wikispaces;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Ferrramentas da internet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15/06 a 19/0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( 2 semestre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17/08 a 21/0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16/09 a 18/0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SETEMBR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Curso download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— </a:t>
            </a: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baixar arquivos, filmes, músicas da internet;</a:t>
            </a: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2f1311"/>
                </a:solidFill>
                <a:latin typeface="Arial"/>
              </a:rPr>
              <a:t>23/09 a 25/0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BJETI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7885080" cy="5761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619280" y="414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9236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364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COTEC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00" y="1989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ROFESSOR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342900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UNO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EM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COMO AVANÇAR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3593880" cy="3403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3238560" cy="2095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3240000" cy="2162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4572000" y="115920"/>
            <a:ext cx="354348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PELO NTE - ST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6000" y="1653840"/>
            <a:ext cx="35528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037600" y="937800"/>
            <a:ext cx="5212080" cy="5211720"/>
            <a:chOff x="2037600" y="937800"/>
            <a:chExt cx="5212080" cy="5211720"/>
          </a:xfrm>
        </p:grpSpPr>
        <p:sp>
          <p:nvSpPr>
            <p:cNvPr id="200" name="_s77830"/>
            <p:cNvSpPr/>
            <p:nvPr/>
          </p:nvSpPr>
          <p:spPr>
            <a:xfrm>
              <a:off x="2736000" y="1636560"/>
              <a:ext cx="3815640" cy="38145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79af7d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77831"/>
            <p:cNvSpPr/>
            <p:nvPr/>
          </p:nvSpPr>
          <p:spPr>
            <a:xfrm rot="7200000">
              <a:off x="2736000" y="163548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_s77832"/>
            <p:cNvSpPr/>
            <p:nvPr/>
          </p:nvSpPr>
          <p:spPr>
            <a:xfrm rot="14400000">
              <a:off x="2736360" y="163584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77833"/>
            <p:cNvSpPr/>
            <p:nvPr/>
          </p:nvSpPr>
          <p:spPr>
            <a:xfrm>
              <a:off x="543852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77834"/>
            <p:cNvSpPr/>
            <p:nvPr/>
          </p:nvSpPr>
          <p:spPr>
            <a:xfrm>
              <a:off x="4062240" y="4550760"/>
              <a:ext cx="11635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77835"/>
            <p:cNvSpPr/>
            <p:nvPr/>
          </p:nvSpPr>
          <p:spPr>
            <a:xfrm>
              <a:off x="268560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FEVEREIRO  - 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Visita às escolas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Orientação aos PS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dezemb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3879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Acompanhamento das atividades desenvolvidas pelos PSTE (N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urso informática básica (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Projeto Brasil Ponto a Ponto (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a dezembr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 – mai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iniciado sem concluir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sem registr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jetos para I Encontro PSTE (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bril – outub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io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 ?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TAC II – Ambientes Tecnológicos de Aprendizagem Colaborativa e Proinfo integrad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companhamento das atividades programadas nos projetos de ensin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un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io – junho – jul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Arial"/>
              </a:rPr>
              <a:t>PELA STE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Acompanhamento das atividades desenvolvidas pelos professores regentes;</a:t>
            </a:r>
            <a:r>
              <a:rPr b="0" lang="pt-BR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Preenchimento do relatório do</a:t>
            </a:r>
            <a:r>
              <a:rPr b="1" lang="pt-PT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PNUD Brasil Ponto a Ponto pelos alunos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Elaboração e apresentação do Plano de Ação 2009</a:t>
            </a:r>
            <a:r>
              <a:rPr b="0" lang="pt-BR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3/03 a 10/12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 ok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9/03 a 16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 ok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20/03 a 15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 ok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Irman Ribeiro</cp:lastModifiedBy>
  <dcterms:modified xsi:type="dcterms:W3CDTF">2009-06-30T19:39:08Z</dcterms:modified>
  <cp:revision>39</cp:revision>
  <dc:subject/>
  <dc:title>TECNOLOGIAS NA ESCOLA</dc:title>
</cp:coreProperties>
</file>